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457200" y="228708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45720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2"/>
          <p:cNvSpPr>
            <a:spLocks noGrp="1"/>
          </p:cNvSpPr>
          <p:nvPr>
            <p:ph type="subTitle"/>
          </p:nvPr>
        </p:nvSpPr>
        <p:spPr>
          <a:xfrm>
            <a:off x="457200" y="228708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061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8" descr="LOGO"/>
          <p:cNvPicPr/>
          <p:nvPr/>
        </p:nvPicPr>
        <p:blipFill>
          <a:blip r:embed="rId2"/>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Интегрисане академске студије </a:t>
            </a:r>
            <a:r>
              <a:rPr b="0" lang="sr-RS" sz="2800" spc="-1" strike="noStrike">
                <a:solidFill>
                  <a:srgbClr val="000000"/>
                </a:solidFill>
                <a:latin typeface="Arial"/>
              </a:rPr>
              <a:t>медицине</a:t>
            </a:r>
            <a:endParaRPr b="0" lang="en-US" sz="2800" spc="-1" strike="noStrike">
              <a:solidFill>
                <a:srgbClr val="000000"/>
              </a:solidFill>
              <a:latin typeface="Arial"/>
            </a:endParaRPr>
          </a:p>
        </p:txBody>
      </p:sp>
      <p:sp>
        <p:nvSpPr>
          <p:cNvPr id="4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Предмет: Енглески језик</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Предавач: Душица Лазић</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od </a:t>
            </a:r>
            <a:endParaRPr b="0" lang="en-US" sz="2400" spc="-1" strike="noStrike">
              <a:solidFill>
                <a:srgbClr val="000000"/>
              </a:solidFill>
              <a:latin typeface="Arial"/>
            </a:endParaRPr>
          </a:p>
        </p:txBody>
      </p:sp>
      <p:sp>
        <p:nvSpPr>
          <p:cNvPr id="4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od is vital, red-colored fluid found in humans and other animals that provides important nourishment to all body organs and tissues and carries away waste materials. Sometimes referred to as “the river of life”, blood is pumped from the heart through a network of blood vessels collectively known as the circulatory system. It travels through the arteries carrying oxygen from the lungs and glucose from the liver to every cell in the organs and tissues of the body. It returns to the lungs via the network of veins, having exchanged oxygen for carbon dioxide, a waste material. An adult human has about 5 to 6 liters of blood, which is roughly 7 to 8 percent of total body weight.....</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st of the lesson can be found in the textbook “English for Students of Medicine” by Dusica Laz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ds to remember:</a:t>
            </a:r>
            <a:endParaRPr b="0" lang="en-US" sz="2400" spc="-1" strike="noStrike">
              <a:solidFill>
                <a:srgbClr val="000000"/>
              </a:solidFill>
              <a:latin typeface="Arial"/>
            </a:endParaRPr>
          </a:p>
        </p:txBody>
      </p:sp>
      <p:sp>
        <p:nvSpPr>
          <p:cNvPr id="4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bum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mma globul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ici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utrophi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ocy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agul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r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lee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v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ige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hension and discussion questions:</a:t>
            </a:r>
            <a:endParaRPr b="0" lang="en-US" sz="2400" spc="-1" strike="noStrike">
              <a:solidFill>
                <a:srgbClr val="000000"/>
              </a:solidFill>
              <a:latin typeface="Arial"/>
            </a:endParaRPr>
          </a:p>
        </p:txBody>
      </p:sp>
      <p:sp>
        <p:nvSpPr>
          <p:cNvPr id="46"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function of the bloo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es the blood consist of?</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role of plasm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are red blood cells so importa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the significance of white blood cell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cells begin the process of coagul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bone marrow responsible f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many blood types are the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is blood type determin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is it important to match transfused bloo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verbs which are related to the nouns listed below:</a:t>
            </a:r>
            <a:endParaRPr b="0" lang="en-US" sz="2400" spc="-1" strike="noStrike">
              <a:solidFill>
                <a:srgbClr val="000000"/>
              </a:solidFill>
              <a:latin typeface="Arial"/>
            </a:endParaRPr>
          </a:p>
        </p:txBody>
      </p:sp>
      <p:sp>
        <p:nvSpPr>
          <p:cNvPr id="48"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rcul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entr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tach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agul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urish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ric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plic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curren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us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 the following phrasal verbs in column A with the corresponding meanings in column B:</a:t>
            </a:r>
            <a:endParaRPr b="0" lang="en-US" sz="2400" spc="-1" strike="noStrike">
              <a:solidFill>
                <a:srgbClr val="000000"/>
              </a:solidFill>
              <a:latin typeface="Arial"/>
            </a:endParaRPr>
          </a:p>
        </p:txBody>
      </p:sp>
      <p:sp>
        <p:nvSpPr>
          <p:cNvPr id="50" name="PlaceHolder 2"/>
          <p:cNvSpPr>
            <a:spLocks noGrp="1"/>
          </p:cNvSpPr>
          <p:nvPr>
            <p:ph/>
          </p:nvPr>
        </p:nvSpPr>
        <p:spPr>
          <a:xfrm>
            <a:off x="457200" y="2287080"/>
            <a:ext cx="8229600" cy="4526280"/>
          </a:xfrm>
          <a:prstGeom prst="rect">
            <a:avLst/>
          </a:prstGeom>
          <a:noFill/>
          <a:ln w="0">
            <a:noFill/>
          </a:ln>
        </p:spPr>
        <p:txBody>
          <a:bodyPr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B</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e down                                            to reduce smth. to smth. less</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e on                                                 to regain consciousness      </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e over                                              to fall, drop or descend</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e round/to                                     to continue to live after illness</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e through                                      to begin to be felt (of pain, illness)</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e up                                              to stop (someth. or doing smth.)</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t down on                                         to wound someone or part of the                             body in several places</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t out                                                to be brought up from the stomach</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t to                                               to reduce something out of necessity</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t up                                             to have a result or effect on someo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the following sentences with a phrasal verb from the list above:</a:t>
            </a:r>
            <a:endParaRPr b="0" lang="en-US" sz="2400" spc="-1" strike="noStrike">
              <a:solidFill>
                <a:srgbClr val="000000"/>
              </a:solidFill>
              <a:latin typeface="Arial"/>
            </a:endParaRPr>
          </a:p>
        </p:txBody>
      </p:sp>
      <p:sp>
        <p:nvSpPr>
          <p:cNvPr id="5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spital waiting time must be....................the least poss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ttack of faintness...............................................hi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Jane is being sick again this morning, that light meal I gave her...................................in a few minut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actitioner told my husband to....................meat from his foo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ild, running too fast,..........................and hurt his kne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irl fainted, but she.....................when we threw drops of water on her fa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r face was badly............................in the car crash.</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octor advised Father to..............................smok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ll .................................his operation as cheerful as ev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can feel the terrible pai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the sentences by choosing either the Gerund or Bare Infinitive:</a:t>
            </a:r>
            <a:endParaRPr b="0" lang="en-US" sz="2400" spc="-1" strike="noStrike">
              <a:solidFill>
                <a:srgbClr val="000000"/>
              </a:solidFill>
              <a:latin typeface="Arial"/>
            </a:endParaRPr>
          </a:p>
        </p:txBody>
      </p:sp>
      <p:sp>
        <p:nvSpPr>
          <p:cNvPr id="5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a point of.........................this important lesson. (learn/learn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don’t feel like......................this medicine just now. (take/tak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had rather......................at home. (stay/stay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hing can make Steven...................his mind.(change/chang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uldn’t it be worth..........................greater attention to this problem. (pay/pay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would you have her...................now? (do/do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t let this question.....................here. (rest/rest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no use......................that all over again. (discuss/discuss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late into English:</a:t>
            </a:r>
            <a:endParaRPr b="0" lang="en-US" sz="2400" spc="-1" strike="noStrike">
              <a:solidFill>
                <a:srgbClr val="000000"/>
              </a:solidFill>
              <a:latin typeface="Arial"/>
            </a:endParaRPr>
          </a:p>
        </p:txBody>
      </p:sp>
      <p:sp>
        <p:nvSpPr>
          <p:cNvPr id="56"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Болести крви су патолошка стања која укључују поремећаје на нивоу ћелија крви и ткива у којима се стварају. Количина црвених крвних зрнаца, код нормалних људи, је различита са обзиром на године, пол, као и спољне услове, али могу се јавити патолошка повећања у броју црвених крвних зрнаца и то стање се зове полицитемија, или патолошког смањења и у том случају говоримо о анемији. У суштини, анемија није болест, већ симптом болести. Постоји много различитих врста анемије и свака се лечи на основу њених узрока. Варијације у броју белих крвних зрнаца нормално се јављају из сата у сат, и највиши број се бележи у подне, а најнижи рано ујутро. Привремена повећања се такође нормално јављају током вежби мишића, менструације, трудноће и порођаја као и у различитим емоционалним стањим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9:01:08Z</dcterms:created>
  <dc:creator>User</dc:creator>
  <dc:description/>
  <dc:language>en-US</dc:language>
  <cp:lastModifiedBy>Dusica Lazic</cp:lastModifiedBy>
  <dcterms:modified xsi:type="dcterms:W3CDTF">2012-09-20T11:21:36Z</dcterms:modified>
  <cp:revision>12</cp:revision>
  <dc:subject/>
  <dc:title>Slide 1</dc:title>
</cp:coreProperties>
</file>